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CD5-CE41-4408-B926-07AE518D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8AE-179B-4EC5-9417-A62F9547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809-B02B-49C4-AC40-1EAF0D18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F25-A33A-4942-9355-59D2FBE3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174-E772-425A-A6B3-82540DE6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A14-E36A-4A48-BD0F-BF121754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86A-A324-4BA4-BF21-0E2FFD56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8A5-CB38-436C-B847-C25C2AE9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552-ED70-4A74-A9E5-A3FACF7C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154-1166-438F-A2DA-371ECEE3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CFB-B175-452A-B1E0-EE5598AB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BD1-47E9-4092-A2D7-5E8B4A5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F0A5-819C-4A1F-900E-3BD2445FA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block" TargetMode="External"/><Relationship Id="rId3" Type="http://schemas.openxmlformats.org/officeDocument/2006/relationships/hyperlink" Target="file:///block" TargetMode="External"/><Relationship Id="rId4" Type="http://schemas.openxmlformats.org/officeDocument/2006/relationships/hyperlink" Target="file:///block" TargetMode="External"/><Relationship Id="rId5" Type="http://schemas.openxmlformats.org/officeDocument/2006/relationships/hyperlink" Target="file:///block" TargetMode="External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21.xml"/><Relationship Id="rId5" Type="http://schemas.openxmlformats.org/officeDocument/2006/relationships/hyperlink" Target="file:///&#1082;&#1086;&#1085;&#1090;&#1088;&#1086;&#1083;&#1100;&#1085;&#1086;&#1077;%20&#1090;&#1077;&#1089;&#1090;&#1080;&#1088;&#1086;&#1074;&#1072;&#1085;&#1080;&#1077;%20-%20&#1062;&#1054;&#1056;%2025" TargetMode="Externa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89;&#1093;&#1077;&#1084;&#1072;.doc" TargetMode="Externa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848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ая организация клет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404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404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МОУ «Лен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3645000"/>
            <a:ext cx="475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рок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учитель Л.К.Ю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26028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Б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413000"/>
            <a:ext cx="842472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спомните определение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жизни»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, данные Ф.Энгельсом, Волькштейном. Что можно сказать о роли белков на основании этих определений? (учебник, с.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должите заполнять таблицу «Химическая организация клет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ЛК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нерегулярные биополимеры, мономерами которых являются 20 аминокисл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796000" y="3933720"/>
            <a:ext cx="3048120" cy="180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5280" y="3573360"/>
            <a:ext cx="525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Часть белков образует комплексы с                                                                        молекулами, содержащим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еру                                                                            фосфор, железо, цинк и медь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Молекулярная масса белковых                                                                       цепей колеблется от нескольких тысяч до нескольких миллионов (в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ирусе табачной мозаик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около 40 000 000 молекул); в их состав входят сотни (иногда – сотни тысяч) аминокислотных остат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5950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рус табачной моза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42920" y="26028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Б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952720" cy="190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8360" y="335772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35772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странственная структура аминокисло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2520" y="1557360"/>
            <a:ext cx="37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щая формула аминокислот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43280" y="2133720"/>
            <a:ext cx="4572000" cy="21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 – CH – C –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8000" y="3789360"/>
            <a:ext cx="2735280" cy="1440000"/>
          </a:xfrm>
          <a:prstGeom prst="ellipse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8000" y="4076640"/>
            <a:ext cx="280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Аминогруппа обладает свойствами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5084640"/>
            <a:ext cx="2735280" cy="1440000"/>
          </a:xfrm>
          <a:prstGeom prst="ellipse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84720" y="3789360"/>
            <a:ext cx="2735280" cy="1440000"/>
          </a:xfrm>
          <a:prstGeom prst="ellipse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5445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Группа радикал – разная у вс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3860640"/>
            <a:ext cx="28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Карбоксильная группа обладает кислотными свойст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92720" y="285264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640000">
            <a:off x="3924360" y="2781360"/>
            <a:ext cx="185760" cy="1123920"/>
          </a:xfrm>
          <a:prstGeom prst="upArrow">
            <a:avLst>
              <a:gd name="adj1" fmla="val 50000"/>
              <a:gd name="adj2" fmla="val 151260"/>
            </a:avLst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3645000"/>
            <a:ext cx="216000" cy="1368360"/>
          </a:xfrm>
          <a:prstGeom prst="upArrow">
            <a:avLst>
              <a:gd name="adj1" fmla="val 50000"/>
              <a:gd name="adj2" fmla="val 158375"/>
            </a:avLst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619000">
            <a:off x="6202440" y="3200400"/>
            <a:ext cx="1298520" cy="201600"/>
          </a:xfrm>
          <a:prstGeom prst="leftArrow">
            <a:avLst>
              <a:gd name="adj1" fmla="val 50000"/>
              <a:gd name="adj2" fmla="val 161027"/>
            </a:avLst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5373720"/>
          <a:ext cx="2592360" cy="90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373720"/>
                    <a:ext cx="25923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flipH="1">
            <a:off x="6084360" y="2421000"/>
            <a:ext cx="28764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156360" y="2492280"/>
            <a:ext cx="287280" cy="14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42920" y="26028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Б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388360" cy="451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17840" y="1340640"/>
            <a:ext cx="240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труктура бел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42920" y="26028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Б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16214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лассификация бел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стые белк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(состоящие только из аминокислот):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альбуми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(яичный альбумин и сывороточный альбумин крови)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глобули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(антитела в крови, фибрин)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гисто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клеропротеи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ератин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волос, кожи и перьев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оллаген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сухожилий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эластин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связ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ложные белки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(включающим небелковый материал):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фосфопротеи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казеин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молока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ителлин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яичного желтка)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гликопротеи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(плазма крови, муцин)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уклеопротеи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(хромосомы и рибосомы)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хромопротеи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гемоглобин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фитохром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цитохром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)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флавопротеи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металлопротеин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116000" y="44766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491640" y="5515920"/>
            <a:ext cx="43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став молока входит белок казе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88760" y="4653000"/>
            <a:ext cx="46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льзуясь учебником (с. 108 – 109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ыпишите функции белков в таб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ile"/>
          <p:cNvSpPr/>
          <p:nvPr/>
        </p:nvSpPr>
        <p:spPr>
          <a:xfrm>
            <a:off x="6659640" y="6165720"/>
            <a:ext cx="2016000" cy="400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42920" y="26028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Угле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1238040"/>
            <a:ext cx="79214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Углеводы (сахариды) –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рганические вещества с общей формулой C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H</a:t>
            </a:r>
            <a:r>
              <a:rPr b="0" lang="ru-RU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O)</a:t>
            </a:r>
            <a:r>
              <a:rPr b="0" i="1" lang="en-US" sz="2000" spc="-1" strike="noStrike" baseline="-25000">
                <a:solidFill>
                  <a:srgbClr val="333399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где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натуральные чис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звание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углеводы»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говорит о том, что в их молекулах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водород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ислород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аходятся в том же отношении, что и в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животных клетках содержится небольшое количество углеводов, а в растительных – почти 70 % от общего количества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784680" y="-3540240"/>
          <a:ext cx="182520" cy="13938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39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84680" y="-3540240"/>
          <a:ext cx="182520" cy="13938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39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3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784680" y="-3540240"/>
          <a:ext cx="182520" cy="13938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39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4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3784680" y="-5565600"/>
          <a:ext cx="182520" cy="17991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39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5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унок 8.1.2.1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юкоз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4716360" y="3284640"/>
            <a:ext cx="29815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2400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Многообразие моносахари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971640" y="3860640"/>
            <a:ext cx="223200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42920" y="26028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Угле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597320"/>
            <a:ext cx="4105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олисахариды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состоят из моносахаридов. Большие размеры делают их молекулы практически нерастворимыми в воде; они не оказывают влияние на клетку и потому удобны в качестве запасных веществ. При необходимости они могут быть превращены обратно в сахара путём гидро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1627200"/>
            <a:ext cx="388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Крахмал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полимер глюкозы) запасается в клетках в виде крахмальных зерен. Эквивалентом крахмала в животном организме является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гликоге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у позвоночных он содержится в печени и мышцах). Крахмал и гликоген играют роль резерва пищи и эне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700360" y="4508640"/>
            <a:ext cx="16383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1545840"/>
            <a:ext cx="518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Целлюлоза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- полимером глюкозы. В ней заключено около 50 % углерода, содержащегося в растениях, служит идеальным строительным материалом для стенок растительной клетки. Целлюлоза – ценный источник глюкозы, однако для её расщепления необходим фермент целлюлаза, сравнительно редко встречающийся в природе. Поэтому в пищу целлюлозу употребляют только некоторые животные (например, жвачные). Велико и промышленное значение целлюлозы – из этого вещества изготовляют хлопчатобумажные ткани и бума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Угле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796000" y="177336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95280" y="1556280"/>
            <a:ext cx="835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Хити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близок к целлюлозе; он встречается у некоторых форм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грибов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а также как важный компонент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ружного скелета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некоторых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Камед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слизи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имеют важную защитную функцию в организмах растений и живот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40464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Угле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4464000" cy="2790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03280" y="6093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родолжите заполнять таблицу «Химическая организация клетк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42920" y="40464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Лип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1606320"/>
            <a:ext cx="374328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Липиды -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ерастворимые в воде органические ве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Жирные кислот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меют общую формулу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R∙COOH,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где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– атом водорода или радикал типа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–CH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В липидах радикал обычно представлен длинной углеводородной цепью; этот «хвост» гидрофобен, что и определяет плохую растворимость липидов в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4103640" cy="3282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427640" y="544464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Одним из компонентов оливкового масла является ненасыщенная жирная олеиновая кисл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42920" y="40464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Лип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3499200"/>
            <a:ext cx="835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Жиры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остаются твёрдыми при 20 °С.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Масла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находятся при этой температуре в жидкой фа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Масла включают ненасыщенные жирные кислоты (имеющие одну или несколько двойных связей C=C) , жиры – насыщенные жирные кислоты (без двойных связей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1628640"/>
            <a:ext cx="4032360" cy="648000"/>
          </a:xfrm>
          <a:prstGeom prst="rect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ейтральные жи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637000"/>
            <a:ext cx="2089080" cy="647640"/>
          </a:xfrm>
          <a:prstGeom prst="ellipse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и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2708280"/>
            <a:ext cx="2089080" cy="647640"/>
          </a:xfrm>
          <a:prstGeom prst="ellipse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с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419280" y="2276640"/>
            <a:ext cx="1152360" cy="43164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2276640"/>
            <a:ext cx="1297080" cy="431640"/>
          </a:xfrm>
          <a:prstGeom prst="line">
            <a:avLst/>
          </a:prstGeom>
          <a:ln w="190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3000" y="5589720"/>
            <a:ext cx="82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родолжите заполнять таблицу «Химическая организация клетки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228600"/>
            <a:ext cx="7417080" cy="86364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ocument">
            <a:hlinkClick r:id="rId2" action="ppaction://hlinksldjump"/>
          </p:cNvPr>
          <p:cNvSpPr/>
          <p:nvPr/>
        </p:nvSpPr>
        <p:spPr>
          <a:xfrm>
            <a:off x="755640" y="1268280"/>
            <a:ext cx="7561440" cy="792360"/>
          </a:xfrm>
          <a:prstGeom prst="pie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Урок 25. Неорганические вещества, входящие в состав кл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ocument">
            <a:hlinkClick r:id="rId3" action="ppaction://hlinksldjump"/>
          </p:cNvPr>
          <p:cNvSpPr/>
          <p:nvPr/>
        </p:nvSpPr>
        <p:spPr>
          <a:xfrm>
            <a:off x="755640" y="2421000"/>
            <a:ext cx="7561440" cy="792000"/>
          </a:xfrm>
          <a:prstGeom prst="pie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Урок 26. Органические вещества, входящие в состав клетки. Белки, углеводы, лип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ocument">
            <a:hlinkClick r:id="rId4" action="ppaction://hlinksldjump"/>
          </p:cNvPr>
          <p:cNvSpPr/>
          <p:nvPr/>
        </p:nvSpPr>
        <p:spPr>
          <a:xfrm>
            <a:off x="755640" y="3645000"/>
            <a:ext cx="7561440" cy="790560"/>
          </a:xfrm>
          <a:prstGeom prst="pie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Урок 27. Органические вещества, входящие в состав клетки. Нуклеиновые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755640" y="4869000"/>
            <a:ext cx="7561440" cy="720720"/>
          </a:xfrm>
          <a:prstGeom prst="pie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онтрольное 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6093000"/>
            <a:ext cx="1512720" cy="358560"/>
          </a:xfrm>
          <a:prstGeom prst="roundRect">
            <a:avLst>
              <a:gd name="adj" fmla="val 16667"/>
            </a:avLst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Тест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6093000"/>
            <a:ext cx="1513080" cy="358560"/>
          </a:xfrm>
          <a:prstGeom prst="roundRect">
            <a:avLst>
              <a:gd name="adj" fmla="val 16667"/>
            </a:avLst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Тес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6093000"/>
            <a:ext cx="1513080" cy="358560"/>
          </a:xfrm>
          <a:prstGeom prst="roundRect">
            <a:avLst>
              <a:gd name="adj" fmla="val 16667"/>
            </a:avLst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Тест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59640" y="6093000"/>
            <a:ext cx="1512720" cy="358560"/>
          </a:xfrm>
          <a:prstGeom prst="roundRect">
            <a:avLst>
              <a:gd name="adj" fmla="val 16667"/>
            </a:avLst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Тест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042920" y="40464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Лип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1400760"/>
            <a:ext cx="8033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Фосфолипиды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состоят из  остатков  жирных кислот и фосфорной кислоты. Благодаря наличию полярной фосфатной группы часть молекулы приобретает способность растворяться в воде, другая же часть молекулы остаётся нерастворимой. Из фосфолипидов строятся все плазматические мембраны живых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3414960"/>
            <a:ext cx="410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Воска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– сложные эфиры жирных кислот и длинноцепочечных спиртов. Они используются животными и растениями в качестве водоотталкивающего покрытия (пчелиные соты, покрытие перьев птиц, эпидермис некоторых плодов и семя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rId3" action="ppaction://hlinksldjump"/>
          </p:cNvPr>
          <p:cNvSpPr/>
          <p:nvPr/>
        </p:nvSpPr>
        <p:spPr>
          <a:xfrm>
            <a:off x="755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42920" y="40464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Урок 27. Органические вещества кле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уклеиновые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1432440"/>
            <a:ext cx="851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Нуклеиновые кислоты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содержат в себе генетический материал всех живых организмов. Выяснение их структуры открыло новую эру в наших знаниях о прир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оставными частями нуклеиновых кислот являются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уклеотиды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5515560"/>
            <a:ext cx="83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Адени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А),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Гуани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Г) - относятся к классу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уринов. Цитози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Ц),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Тимин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Т; в РНК -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Урацил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У) - к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пиримидинам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Фосфорная кислота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определяет кислотные свойства нуклеиновых кисло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2781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троение нуклеот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284640"/>
            <a:ext cx="2663640" cy="1873080"/>
          </a:xfrm>
          <a:prstGeom prst="rect">
            <a:avLst/>
          </a:prstGeom>
          <a:solidFill>
            <a:srgbClr val="a8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зотистое основ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енин (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анин (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мин (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Урацил - 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тозин (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3780000" y="3284280"/>
            <a:ext cx="2087280" cy="1873080"/>
          </a:xfrm>
          <a:prstGeom prst="flowChartOffpage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ятиуглер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ха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ибоза (РНК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зокси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ДНК) сах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3284640"/>
            <a:ext cx="2087640" cy="1873080"/>
          </a:xfrm>
          <a:prstGeom prst="ellipse">
            <a:avLst/>
          </a:prstGeom>
          <a:solidFill>
            <a:srgbClr val="f2ac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та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р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4149720"/>
            <a:ext cx="648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4149720"/>
            <a:ext cx="72072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6720" cy="2089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2160" y="134136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тография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093080" y="1268280"/>
            <a:ext cx="1528560" cy="49690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302880" y="6307920"/>
            <a:ext cx="26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йная спираль ДН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404640"/>
            <a:ext cx="6985080" cy="64800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Нуклеиновые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3948480"/>
            <a:ext cx="65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ыяснить структуру ДНК удалось в 1953 году английским ученым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. Уотсону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и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Ф. Кр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ДН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- две правозакрученные полинуклеотидные цепи, свитые в спираль. Шаг спирали составляет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,4 нм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(по 10 пар оснований в витке), а диаметр витка –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 нм.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Фосфатные группировки находятся снаружи спирали, а азотистые основания – внут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42920" y="404640"/>
            <a:ext cx="6985080" cy="64800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Д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6200" y="4508640"/>
            <a:ext cx="25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амоудвоение ДН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1194840"/>
            <a:ext cx="80186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авило Э. Чаргаф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А + Т) + (Г + Ц) = 100% в Д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 = Т, Г =  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омплементарность: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пары соединяются водородными связями между основаниями в строго определённом поряд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    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     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39337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40053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56000" y="422100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56000" y="429264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43657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040" y="507996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собенности строения АТ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042920" y="404640"/>
            <a:ext cx="6985080" cy="64800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рганические вещества клетки. РН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30068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Молекула РНК состоит из одной цепи и имеет  меньшие разме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уществует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ри основных вида РН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2492280"/>
            <a:ext cx="2158920" cy="865440"/>
          </a:xfrm>
          <a:prstGeom prst="ellipse">
            <a:avLst/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2" action="ppaction://hlinksldjump"/>
          </p:cNvPr>
          <p:cNvSpPr/>
          <p:nvPr/>
        </p:nvSpPr>
        <p:spPr>
          <a:xfrm>
            <a:off x="1042920" y="3429000"/>
            <a:ext cx="1224000" cy="936720"/>
          </a:xfrm>
          <a:prstGeom prst="ellipse">
            <a:avLst/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80000" y="4149720"/>
            <a:ext cx="1223640" cy="936720"/>
          </a:xfrm>
          <a:prstGeom prst="ellipse">
            <a:avLst/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3500280"/>
            <a:ext cx="1224000" cy="936720"/>
          </a:xfrm>
          <a:prstGeom prst="ellipse">
            <a:avLst/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195280" y="3068640"/>
            <a:ext cx="1152360" cy="576360"/>
          </a:xfrm>
          <a:prstGeom prst="line">
            <a:avLst/>
          </a:prstGeom>
          <a:ln w="442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3357720"/>
            <a:ext cx="0" cy="718920"/>
          </a:xfrm>
          <a:prstGeom prst="line">
            <a:avLst/>
          </a:prstGeom>
          <a:ln w="442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35640" y="3068640"/>
            <a:ext cx="1079640" cy="504720"/>
          </a:xfrm>
          <a:prstGeom prst="line">
            <a:avLst/>
          </a:prstGeom>
          <a:ln w="44280">
            <a:solidFill>
              <a:srgbClr val="000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537372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Пользуясь материалом учебника с.111 – 112, выпишите функции нуклеиновых кислот в таблицу «Химическая организация клет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8028000" y="6093000"/>
            <a:ext cx="647640" cy="5029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7811" h="21600">
                <a:moveTo>
                  <a:pt x="0" y="0"/>
                </a:moveTo>
                <a:lnTo>
                  <a:pt x="27811" y="0"/>
                </a:lnTo>
                <a:lnTo>
                  <a:pt x="27811" y="21600"/>
                </a:lnTo>
                <a:lnTo>
                  <a:pt x="0" y="21600"/>
                </a:lnTo>
                <a:close/>
              </a:path>
              <a:path fill="lightenLess" w="27811" h="21600">
                <a:moveTo>
                  <a:pt x="0" y="0"/>
                </a:moveTo>
                <a:lnTo>
                  <a:pt x="27811" y="0"/>
                </a:lnTo>
                <a:lnTo>
                  <a:pt x="26411" y="1400"/>
                </a:lnTo>
                <a:lnTo>
                  <a:pt x="1400" y="1400"/>
                </a:lnTo>
                <a:close/>
              </a:path>
              <a:path fill="darken" w="27811" h="21600">
                <a:moveTo>
                  <a:pt x="27811" y="0"/>
                </a:moveTo>
                <a:lnTo>
                  <a:pt x="27811" y="21600"/>
                </a:lnTo>
                <a:lnTo>
                  <a:pt x="26411" y="20200"/>
                </a:lnTo>
                <a:lnTo>
                  <a:pt x="26411" y="1400"/>
                </a:lnTo>
                <a:close/>
              </a:path>
              <a:path fill="darkenLess" w="27811" h="21600">
                <a:moveTo>
                  <a:pt x="27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11" y="20200"/>
                </a:lnTo>
                <a:close/>
              </a:path>
              <a:path fill="lighten" w="27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11" h="21600">
                <a:moveTo>
                  <a:pt x="13906" y="3837"/>
                </a:moveTo>
                <a:lnTo>
                  <a:pt x="16482" y="6448"/>
                </a:lnTo>
                <a:lnTo>
                  <a:pt x="16482" y="4707"/>
                </a:lnTo>
                <a:lnTo>
                  <a:pt x="18257" y="4707"/>
                </a:lnTo>
                <a:lnTo>
                  <a:pt x="18257" y="8224"/>
                </a:lnTo>
                <a:lnTo>
                  <a:pt x="20869" y="10800"/>
                </a:lnTo>
                <a:lnTo>
                  <a:pt x="19215" y="10800"/>
                </a:lnTo>
                <a:lnTo>
                  <a:pt x="19215" y="17989"/>
                </a:lnTo>
                <a:lnTo>
                  <a:pt x="8596" y="17989"/>
                </a:lnTo>
                <a:lnTo>
                  <a:pt x="8596" y="10800"/>
                </a:lnTo>
                <a:lnTo>
                  <a:pt x="6943" y="10800"/>
                </a:lnTo>
                <a:close/>
              </a:path>
              <a:path fill="darkenLess" w="27811" h="21600">
                <a:moveTo>
                  <a:pt x="16482" y="6448"/>
                </a:moveTo>
                <a:lnTo>
                  <a:pt x="16482" y="4707"/>
                </a:lnTo>
                <a:lnTo>
                  <a:pt x="18257" y="4707"/>
                </a:lnTo>
                <a:lnTo>
                  <a:pt x="18257" y="8224"/>
                </a:lnTo>
                <a:close/>
              </a:path>
              <a:path fill="darkenLess" w="27811" h="21600">
                <a:moveTo>
                  <a:pt x="12983" y="14299"/>
                </a:moveTo>
                <a:lnTo>
                  <a:pt x="14828" y="14299"/>
                </a:lnTo>
                <a:lnTo>
                  <a:pt x="14828" y="17989"/>
                </a:lnTo>
                <a:lnTo>
                  <a:pt x="19215" y="17989"/>
                </a:lnTo>
                <a:lnTo>
                  <a:pt x="19215" y="10800"/>
                </a:lnTo>
                <a:lnTo>
                  <a:pt x="8596" y="10800"/>
                </a:lnTo>
                <a:lnTo>
                  <a:pt x="8596" y="17989"/>
                </a:lnTo>
                <a:lnTo>
                  <a:pt x="12983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042920" y="404640"/>
            <a:ext cx="6985080" cy="64800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рганические вещества клетки. Нуклеиновые кис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12752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формационная РНК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(и-РНК) является матрицей, которую рибосомы используют при синтезе белка. Её нуклеотидная последовательность комплементарна сообщению, содержащемуся в определённом участке ДНК , т.о. она переносит информацию о структуре белка к его месту синте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29008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ранспортные РН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связывает аминокислоты и транспортирует их к месту синтеза бел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3360" y="4004280"/>
            <a:ext cx="825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есколько видов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-РНК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являются основным компонентом рибос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403440" cy="4537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24360" y="331560"/>
            <a:ext cx="4824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отсон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Джеймс Дьюи (06.04.1928, Чикаго), американский биохимик, специалист в области молекулярной биологии, член Национальной АН США (1962), Американской академии искусств и наук (1957), Датской королевской АН (1962). Окончил Чикагский университет (1947). Работал в Копенгагенском университете (1950–51), в Кавендишской лаборатории Кембриджского университета (1951–53 и 1955–56), Калифорнийском технологическом институте (1953–55). С 1956 преподавал биологию в Гарвардском университете (с 1961 профессор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8360" y="5529240"/>
            <a:ext cx="8351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 1962 консультант президента США по науке. С 1968 директор лаборатории количественной биологии в Колд-Спринг-Харборе (штат Нью-Йор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795672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3456000" cy="46083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924360" y="474480"/>
            <a:ext cx="496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рик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Фрэнсис Харри Комптон (08.06.1916, Нортгемптон), английский биофизик, удостоенный в 1962 Нобелевской премии по физиологии и медицине за открытие молекулярной структуры ДНК. Окончил Милл-Хилл-скул и Юниверсити-колледж в Лондоне. В 1953 получил степень доктора философии в Кембриджском университете. В 1937–39 и с 1947 работал в Кембриджском университете. Во время Второй мировой войны был сотрудником научного отдела Адмиралтейства, участвовал в создании магнитных м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5394240"/>
            <a:ext cx="820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 1953–54 работал в Бруклинском политехническом институте (Нью-Йорк) в рамках программы по изучению структуры белков, в 1962 – в Лондонском университ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8101080" y="61657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3794" y="10809"/>
                </a:moveTo>
                <a:lnTo>
                  <a:pt x="17806" y="3803"/>
                </a:lnTo>
                <a:lnTo>
                  <a:pt x="17806" y="1781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47640" y="260280"/>
            <a:ext cx="6050160" cy="75240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имическая организация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1773360"/>
            <a:ext cx="8064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Химические соединения, содержащиеся в живых организм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в % на сырую мас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393372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ода (75 – 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08720" y="2924280"/>
            <a:ext cx="2952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Органически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5013360"/>
            <a:ext cx="30258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Минеральные со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1 – 1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402920" y="2492280"/>
            <a:ext cx="273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40360" y="2492280"/>
            <a:ext cx="31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292428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еорганические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00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08720" y="5877000"/>
            <a:ext cx="3384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изкомолекулярные ор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вещества (0,1-0,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08720" y="5300640"/>
            <a:ext cx="33843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уклеиновые кислоты (1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8720" y="4797360"/>
            <a:ext cx="33112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Жиры (1 –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8720" y="4292640"/>
            <a:ext cx="33112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Углеводы (0,2 – 2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08720" y="3789360"/>
            <a:ext cx="33112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Белки (10 -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59280" y="328464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9280" y="6165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5516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4941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59280" y="4437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59280" y="40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28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3780000" y="6093000"/>
            <a:ext cx="576000" cy="549000"/>
          </a:xfrm>
          <a:custGeom>
            <a:avLst/>
            <a:gdLst>
              <a:gd name="textAreaLeft" fmla="*/ 35280 w 576000"/>
              <a:gd name="textAreaRight" fmla="*/ 540720 w 57600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22662" h="21600">
                <a:moveTo>
                  <a:pt x="0" y="0"/>
                </a:moveTo>
                <a:lnTo>
                  <a:pt x="22662" y="0"/>
                </a:lnTo>
                <a:lnTo>
                  <a:pt x="22662" y="21600"/>
                </a:lnTo>
                <a:lnTo>
                  <a:pt x="0" y="21600"/>
                </a:lnTo>
                <a:close/>
              </a:path>
              <a:path fill="lightenLess" w="22662" h="21600">
                <a:moveTo>
                  <a:pt x="0" y="0"/>
                </a:moveTo>
                <a:lnTo>
                  <a:pt x="22662" y="0"/>
                </a:lnTo>
                <a:lnTo>
                  <a:pt x="21262" y="1400"/>
                </a:lnTo>
                <a:lnTo>
                  <a:pt x="1400" y="1400"/>
                </a:lnTo>
                <a:close/>
              </a:path>
              <a:path fill="darken" w="22662" h="21600">
                <a:moveTo>
                  <a:pt x="22662" y="0"/>
                </a:moveTo>
                <a:lnTo>
                  <a:pt x="22662" y="21600"/>
                </a:lnTo>
                <a:lnTo>
                  <a:pt x="21262" y="20200"/>
                </a:lnTo>
                <a:lnTo>
                  <a:pt x="21262" y="1400"/>
                </a:lnTo>
                <a:close/>
              </a:path>
              <a:path fill="darkenLess" w="22662" h="21600">
                <a:moveTo>
                  <a:pt x="22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2" y="20200"/>
                </a:lnTo>
                <a:close/>
              </a:path>
              <a:path fill="lighten" w="22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2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6121440" cy="3672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26028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Урок 25. Неорганические вещества, входя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состав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78640" y="1268280"/>
            <a:ext cx="6575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Содержание химических элементов в теле человек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44500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- Назовите химические элементы, составляющие большую часть живых организмов? Пользуясь таблицей,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составьте схему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«Основные группы химических элементов живой приро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1916280"/>
            <a:ext cx="1297080" cy="360360"/>
          </a:xfrm>
          <a:custGeom>
            <a:avLst/>
            <a:gdLst>
              <a:gd name="textAreaLeft" fmla="*/ 23040 w 1297080"/>
              <a:gd name="textAreaRight" fmla="*/ 1274040 w 1297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91" h="21600">
                <a:moveTo>
                  <a:pt x="0" y="0"/>
                </a:moveTo>
                <a:lnTo>
                  <a:pt x="77691" y="0"/>
                </a:lnTo>
                <a:lnTo>
                  <a:pt x="77691" y="21600"/>
                </a:lnTo>
                <a:lnTo>
                  <a:pt x="0" y="21600"/>
                </a:lnTo>
                <a:close/>
              </a:path>
              <a:path fill="lightenLess" w="77691" h="21600">
                <a:moveTo>
                  <a:pt x="0" y="0"/>
                </a:moveTo>
                <a:lnTo>
                  <a:pt x="77691" y="0"/>
                </a:lnTo>
                <a:lnTo>
                  <a:pt x="76291" y="1400"/>
                </a:lnTo>
                <a:lnTo>
                  <a:pt x="1400" y="1400"/>
                </a:lnTo>
                <a:close/>
              </a:path>
              <a:path fill="darken" w="77691" h="21600">
                <a:moveTo>
                  <a:pt x="77691" y="0"/>
                </a:moveTo>
                <a:lnTo>
                  <a:pt x="77691" y="21600"/>
                </a:lnTo>
                <a:lnTo>
                  <a:pt x="76291" y="20200"/>
                </a:lnTo>
                <a:lnTo>
                  <a:pt x="76291" y="1400"/>
                </a:lnTo>
                <a:close/>
              </a:path>
              <a:path fill="darkenLess" w="77691" h="21600">
                <a:moveTo>
                  <a:pt x="77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91" y="20200"/>
                </a:lnTo>
                <a:close/>
              </a:path>
              <a:path fill="lighten" w="77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ad1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260280"/>
            <a:ext cx="6050160" cy="75240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имическая организация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197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Пользуясь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хемой 1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, составь опорный конспект в тет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773360"/>
            <a:ext cx="806436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Химические соединения, содержащиеся в живых организм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в % на сырую мас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393372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2924280"/>
            <a:ext cx="295272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013360"/>
            <a:ext cx="302580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02920" y="2492280"/>
            <a:ext cx="2737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40360" y="2492280"/>
            <a:ext cx="31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92428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4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5950080"/>
            <a:ext cx="3311280" cy="3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5300640"/>
            <a:ext cx="33112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08720" y="4797360"/>
            <a:ext cx="33112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4292640"/>
            <a:ext cx="33112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789360"/>
            <a:ext cx="331128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9280" y="3284640"/>
            <a:ext cx="0" cy="28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6165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5516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494172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4437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40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3284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ile">
            <a:hlinkClick r:id="rId3" action="ppaction://hlinksldjump"/>
          </p:cNvPr>
          <p:cNvSpPr/>
          <p:nvPr/>
        </p:nvSpPr>
        <p:spPr>
          <a:xfrm>
            <a:off x="1763640" y="6237360"/>
            <a:ext cx="2016360" cy="3999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47640" y="260280"/>
            <a:ext cx="6050160" cy="75240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еорганические вещества 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1125360"/>
            <a:ext cx="77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Начни заполнять таблицу «Химическая организация кл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628640"/>
          <a:ext cx="8229600" cy="4827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в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обенности стро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рганические вещества клет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еральные со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47640" y="260280"/>
            <a:ext cx="6264360" cy="75240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еорганические вещества клетки: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3384360" cy="279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211640" y="1584360"/>
            <a:ext cx="446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а - 60 % - 95 % от общей массы орган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а – обязательное условие жизненной активности кл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а - среда обитания для многих организ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йства 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лые размеры молекул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ярность молеку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собность образовывать водородные связи друг с друг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33116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Функции 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ниверсальный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створител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для полярных веществ, служит средой для транспорта различных веществ внутри организ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еплоёмкость: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биохимические процессы идут в малом диапазоне температ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ольшая теплота испарения: используется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и терморегуляции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у животных (потоотделение) и растений (охлаждение листье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большая теплота плавления: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епятствует образованию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кристаллов льда в клетках при понижении темп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отность льда меньше плотности воды: он не тонет, и водоёмы промерзают сверху вниз (в противном случае реки и озера холодных и умеренных поясов промёрзли бы за зиму насквоз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верхностное натяжение: обеспечивает движение воды по капиллярам организм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необходимый компонент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етаболических реакций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(фотосинтез, гидролиз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сморегуля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260280"/>
            <a:ext cx="6264360" cy="75240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еорганические вещества клетки: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ile"/>
          <p:cNvSpPr/>
          <p:nvPr/>
        </p:nvSpPr>
        <p:spPr>
          <a:xfrm>
            <a:off x="6659640" y="6165720"/>
            <a:ext cx="2016000" cy="400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7640" y="260280"/>
            <a:ext cx="6264360" cy="86508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еорганические вещества клет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ИНЕРАЛЬНЫЕ С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371628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Заполните таблицу, графу «Минеральные соли», используя материал  учебника на с.104 - 1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1585800"/>
            <a:ext cx="75614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акже в клетке содержится много различных солей в диссоциированном состоянии. Для процессов жизнедеятельности из входящих в состав солей катионов наиболее важны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K+, Na+, Ca</a:t>
            </a:r>
            <a:r>
              <a:rPr b="1" lang="ru-RU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+, Mg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+,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из анионов –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HPO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4 </a:t>
            </a:r>
            <a:r>
              <a:rPr b="1" lang="ru-RU" sz="2000" spc="-1" strike="noStrike" baseline="30000">
                <a:solidFill>
                  <a:srgbClr val="333399"/>
                </a:solidFill>
                <a:latin typeface="Arial"/>
              </a:rPr>
              <a:t>2–,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H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PO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000" spc="-1" strike="noStrike" baseline="30000">
                <a:solidFill>
                  <a:srgbClr val="333399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Cl</a:t>
            </a:r>
            <a:r>
              <a:rPr b="1" lang="ru-RU" sz="2000" spc="-1" strike="noStrike" baseline="30000">
                <a:solidFill>
                  <a:srgbClr val="333399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, HCO</a:t>
            </a:r>
            <a:r>
              <a:rPr b="1" lang="ru-RU" sz="2000" spc="-1" strike="noStrike" baseline="-25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000" spc="-1" strike="noStrike" baseline="30000">
                <a:solidFill>
                  <a:srgbClr val="333399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le"/>
          <p:cNvSpPr/>
          <p:nvPr/>
        </p:nvSpPr>
        <p:spPr>
          <a:xfrm>
            <a:off x="6659640" y="6165720"/>
            <a:ext cx="2016000" cy="4003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овер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4360" y="616572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14361" y="3837"/>
                </a:moveTo>
                <a:lnTo>
                  <a:pt x="16937" y="6448"/>
                </a:lnTo>
                <a:lnTo>
                  <a:pt x="16937" y="4707"/>
                </a:lnTo>
                <a:lnTo>
                  <a:pt x="18713" y="4707"/>
                </a:lnTo>
                <a:lnTo>
                  <a:pt x="18713" y="8224"/>
                </a:lnTo>
                <a:lnTo>
                  <a:pt x="21324" y="10800"/>
                </a:lnTo>
                <a:lnTo>
                  <a:pt x="19670" y="10800"/>
                </a:lnTo>
                <a:lnTo>
                  <a:pt x="19670" y="17989"/>
                </a:lnTo>
                <a:lnTo>
                  <a:pt x="9052" y="17989"/>
                </a:lnTo>
                <a:lnTo>
                  <a:pt x="9052" y="10800"/>
                </a:lnTo>
                <a:lnTo>
                  <a:pt x="7398" y="10800"/>
                </a:lnTo>
                <a:close/>
              </a:path>
              <a:path fill="darkenLess" w="28722" h="21600">
                <a:moveTo>
                  <a:pt x="16937" y="6448"/>
                </a:moveTo>
                <a:lnTo>
                  <a:pt x="16937" y="4707"/>
                </a:lnTo>
                <a:lnTo>
                  <a:pt x="18713" y="4707"/>
                </a:lnTo>
                <a:lnTo>
                  <a:pt x="18713" y="8224"/>
                </a:lnTo>
                <a:close/>
              </a:path>
              <a:path fill="darkenLess" w="28722" h="21600">
                <a:moveTo>
                  <a:pt x="13438" y="14299"/>
                </a:moveTo>
                <a:lnTo>
                  <a:pt x="15284" y="14299"/>
                </a:lnTo>
                <a:lnTo>
                  <a:pt x="15284" y="17989"/>
                </a:lnTo>
                <a:lnTo>
                  <a:pt x="19670" y="17989"/>
                </a:lnTo>
                <a:lnTo>
                  <a:pt x="19670" y="10800"/>
                </a:lnTo>
                <a:lnTo>
                  <a:pt x="9052" y="10800"/>
                </a:lnTo>
                <a:lnTo>
                  <a:pt x="9052" y="17989"/>
                </a:lnTo>
                <a:lnTo>
                  <a:pt x="13438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260280"/>
            <a:ext cx="6985080" cy="936720"/>
          </a:xfrm>
          <a:prstGeom prst="bevel">
            <a:avLst>
              <a:gd name="adj" fmla="val 12500"/>
            </a:avLst>
          </a:prstGeom>
          <a:solidFill>
            <a:srgbClr val="bad1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Урок 26. Органические вещества, входя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состав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413000"/>
            <a:ext cx="86421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Органические веществ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соединения, содержащие углерод (кроме карбонатов). Между атомами углерода возникают связи одинарные или двойные, на основе которых формируются углеродные цеп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линейные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 – С – С – С – С – С –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разветвлённые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 – С – С – С – С – С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 С –                   - С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 С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циклические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 С                   С – С – С – 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- С                   С --     -- 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2400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964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964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335772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33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29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335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328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29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32360" y="335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29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29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335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335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00720" y="393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443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530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4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530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530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530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51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49417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4797360"/>
            <a:ext cx="50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492360" y="479736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51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48000" y="573408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6165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140360" y="5734080"/>
            <a:ext cx="50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995640" y="5589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716000" y="573408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5164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57:22Z</dcterms:created>
  <dc:creator>Школа</dc:creator>
  <dc:description/>
  <dc:language>en-US</dc:language>
  <cp:lastModifiedBy>любовь</cp:lastModifiedBy>
  <dcterms:modified xsi:type="dcterms:W3CDTF">2009-01-15T16:06:01Z</dcterms:modified>
  <cp:revision>14</cp:revision>
  <dc:subject/>
  <dc:title>Работу выполнила: Истомина Александра  Учитель Юшкова Л.К        Ленск 2008 </dc:title>
</cp:coreProperties>
</file>